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822-526A-4907-AE50-B38E7F57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448-7A7A-48A0-A793-421CD07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099-C0D6-4F15-AE49-18B77CCE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C92-3838-4A8D-A876-4E9CBA6E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209B-559A-448C-A98B-7F79C51C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E800-3CB3-485D-84F3-86C0777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859B-BC48-4A59-83CE-76821E2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C0A8-1CC0-4593-A60F-5660B10B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68AF-55B8-4530-90FF-8AF1942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1E86-6092-4ACA-BDB5-D4CAE4EA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5B1F-1544-4FC5-9E2A-FCED732E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004-536B-47C7-A077-0965D41C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3625-1163-44D9-9238-247E4A60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6BA7-FDF9-4789-B1ED-A0116D97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0522-421A-4C79-89A3-57A1FFC9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5B47-478C-4ED6-9F01-399705C7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0213-2416-48DA-8DC0-DA599942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886-F71D-47D2-B350-F6F956D2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405-FBF9-4141-AB76-9F7F623B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17D-2221-42E9-9830-40631770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A6E-01CB-4845-AC38-955CD893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58A-884B-45C6-854F-483D6E0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75F-E6B8-4889-8113-EA070DDB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E01-0398-4383-9205-0EAEAB2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F06-8C73-4E45-B88E-90CC752C9C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1B39-DF3B-4769-A252-5B06CAC8EC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CHEF KNIFE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and C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ife Cu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5" descr="611D649"/>
          <p:cNvPicPr/>
          <p:nvPr/>
        </p:nvPicPr>
        <p:blipFill>
          <a:blip r:embed="rId1"/>
          <a:stretch/>
        </p:blipFill>
        <p:spPr>
          <a:xfrm>
            <a:off x="5486400" y="2362320"/>
            <a:ext cx="3422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551D3A3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nife Safe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ways keep your knife sharp, it requires less pressure to use and you will less likely to slip and cut yourself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correct size knife for the job.  Hold the knife firmly, cut away from your body.  Always use a cutting board with a damp towel underneath to prevent slipp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not in use knives should visible, lying flat on the work surfa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 knife falls, do not try to catch it, step back and let it dro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ways carry a knife at your side with the point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ow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nives are to be washed and sanitized between uses at a designated area in the kitchen.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NEVE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lace a knife into a sink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handing someone a knife, hand it to them handle first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D9DA183F"/>
          <p:cNvPicPr/>
          <p:nvPr/>
        </p:nvPicPr>
        <p:blipFill>
          <a:blip r:embed="rId1"/>
          <a:stretch/>
        </p:blipFill>
        <p:spPr>
          <a:xfrm>
            <a:off x="609480" y="152280"/>
            <a:ext cx="8229600" cy="6705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905120" y="3808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TOE&gt;&gt;&gt;&gt;&gt;&gt;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28920BA5"/>
          <p:cNvPicPr/>
          <p:nvPr/>
        </p:nvPicPr>
        <p:blipFill>
          <a:blip r:embed="rId1"/>
          <a:stretch/>
        </p:blipFill>
        <p:spPr>
          <a:xfrm>
            <a:off x="0" y="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38080" y="3886200"/>
            <a:ext cx="7696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NIFE HAND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shape should be simple and comfort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terial should be non-slip, and easy to sanitize and maint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Tang</a:t>
            </a:r>
            <a:br>
              <a:rPr sz="4000"/>
            </a:b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What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0" name="Picture 5" descr="A3CA61FB"/>
          <p:cNvPicPr/>
          <p:nvPr/>
        </p:nvPicPr>
        <p:blipFill>
          <a:blip r:embed="rId1"/>
          <a:stretch/>
        </p:blipFill>
        <p:spPr>
          <a:xfrm>
            <a:off x="228600" y="1295280"/>
            <a:ext cx="8229600" cy="327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609480" y="495288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ng-the section of the blade that extends through the knife handle.  Then fuller the tang the finer the knife.  The tang is secured by rivets or sealed to the hand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nife Cu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urne-seven sided “football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rge Dice-1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um Dice-1/2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all Dice-1/4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unoise-1/8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all Brunoise-1/16” cub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ondel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ton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ulien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ne Julien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7" descr="4D48C977"/>
          <p:cNvPicPr/>
          <p:nvPr/>
        </p:nvPicPr>
        <p:blipFill>
          <a:blip r:embed="rId1"/>
          <a:stretch/>
        </p:blipFill>
        <p:spPr>
          <a:xfrm rot="21424200">
            <a:off x="4576680" y="1294920"/>
            <a:ext cx="456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4088CEB"/>
          <p:cNvPicPr/>
          <p:nvPr/>
        </p:nvPicPr>
        <p:blipFill>
          <a:blip r:embed="rId1"/>
          <a:stretch/>
        </p:blipFill>
        <p:spPr>
          <a:xfrm>
            <a:off x="4343400" y="457200"/>
            <a:ext cx="4495680" cy="6019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QUE FO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.-SLI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.-JULIENN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.-DI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Y SHARP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ld knife at a constant 20° angle to the sharpening st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ways sharpen in the same dir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ke the strokes on each side of equal number and of equal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 a general rule, make 5 strokes on each side of the bl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4" descr="4CCAE131"/>
          <p:cNvPicPr/>
          <p:nvPr/>
        </p:nvPicPr>
        <p:blipFill>
          <a:blip r:embed="rId5"/>
          <a:stretch/>
        </p:blipFill>
        <p:spPr>
          <a:xfrm>
            <a:off x="0" y="274320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7FE0910D"/>
          <p:cNvPicPr/>
          <p:nvPr/>
        </p:nvPicPr>
        <p:blipFill>
          <a:blip r:embed="rId1"/>
          <a:stretch/>
        </p:blipFill>
        <p:spPr>
          <a:xfrm>
            <a:off x="3962520" y="380880"/>
            <a:ext cx="490536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3276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ARPENING STE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ed not to sharpen the blade, but hone/realign the blade after sharpening +/or us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 the blade dulls, a burr forms as the edge rolls over, making the knife dul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teel realigns and hones the bl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4:17:46Z</dcterms:created>
  <dc:creator>Michael J. Tomaseski</dc:creator>
  <dc:description/>
  <dc:language>en-US</dc:language>
  <cp:lastModifiedBy>mtomaseski</cp:lastModifiedBy>
  <dcterms:modified xsi:type="dcterms:W3CDTF">2008-09-11T12:05:14Z</dcterms:modified>
  <cp:revision>13</cp:revision>
  <dc:subject/>
  <dc:title>THE CHEF KNIFE</dc:title>
</cp:coreProperties>
</file>